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highchime.wav" ContentType="audio/x-wav"/>
  <Override PartName="/ppt/media/meepmeep.wav" ContentType="audio/x-wav"/>
  <Override PartName="/ppt/media/caralarmoff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559-9CFC-4F89-B8F8-39EEEC25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104-5FBA-446F-90BC-BC9BB91B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2C2-B7C0-4799-B6B2-6CEB4E6A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6CD1-825F-4D2C-A812-841D686D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86D-11C0-4345-9CE8-331CAA0B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90F5-F26F-40F8-BF93-873F01AB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187A-2B51-4F7B-A51B-FE3F4A94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5AE-30D0-4FD1-8BA7-A323AC34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BFFB-CA0E-4941-9DC9-9C27E9BE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D15-2324-4E32-94A2-3ED43156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EE4B-C671-42A7-9AFF-F82D3182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D269-22A3-400D-85E7-5D3799B4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1962-D6CB-4408-BBE1-E2AB3BDF3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bserie06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jetflyby2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bserie06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meepmeep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Name the variab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34880" y="1450800"/>
                <a:ext cx="2781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271520" y="2314440"/>
                <a:ext cx="5270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592280" y="2255760"/>
                <a:ext cx="12636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005360" y="1455840"/>
                <a:ext cx="28256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881600" y="2306520"/>
                <a:ext cx="5792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326200" y="2320920"/>
                <a:ext cx="14745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Comple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61880" y="1352520"/>
                <a:ext cx="466416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243320" y="1506600"/>
                <a:ext cx="5796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53960" y="2630520"/>
                <a:ext cx="457524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675240" y="2587680"/>
                <a:ext cx="5270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38200" y="3479760"/>
                <a:ext cx="381312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  <m:r>
                      <m:t xml:space="preserve">÷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22600" y="3840120"/>
                <a:ext cx="7905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30280" y="5086440"/>
                <a:ext cx="466560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630520" y="5424480"/>
                <a:ext cx="8967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344840" y="5418000"/>
                <a:ext cx="5810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6720" y="1398600"/>
          <a:ext cx="8232480" cy="2487240"/>
        </p:xfrm>
        <a:graphic>
          <a:graphicData uri="http://schemas.openxmlformats.org/drawingml/2006/table">
            <a:tbl>
              <a:tblPr/>
              <a:tblGrid>
                <a:gridCol w="2357280"/>
                <a:gridCol w="5875200"/>
              </a:tblGrid>
              <a:tr h="12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2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92040" y="169236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65520" y="1393920"/>
            <a:ext cx="584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parts separated by a plus or a minus 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1520" y="296244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Const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4640" y="2895480"/>
            <a:ext cx="584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 term without a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9.  Name the coefficient of           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316480" y="674640"/>
                <a:ext cx="1346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594240" y="1436760"/>
                <a:ext cx="5270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0" y="2598840"/>
            <a:ext cx="21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10.  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757520" y="2482920"/>
                <a:ext cx="16160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3389400" y="2620800"/>
            <a:ext cx="21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302000" y="2505240"/>
                <a:ext cx="13017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5602320" y="2643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like or unlik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13000" y="3825720"/>
            <a:ext cx="181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LI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5, 2 – 1 #1-20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7, 2 – 2 #1-18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4-09-04T17:21:47Z</dcterms:modified>
  <cp:revision>53</cp:revision>
  <dc:subject/>
  <dc:title>Slide 1</dc:title>
</cp:coreProperties>
</file>